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F9D-7A03-4DC8-AB4B-3284141C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042-8483-448B-B195-6356E78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3C1-5363-446D-A849-284AAC55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8FA-DB33-4E8B-93B6-DF2D08FC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845F-F71F-49D2-B33C-A4205433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8352-DFD7-4945-A119-FF19268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8742-58BD-4E96-8592-7D07D33D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24C6-25BC-4640-890C-F1245B33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3EB-6D11-45B0-9865-B5FBC41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7390-5FFA-494E-95D0-A9ADEF5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B324-7698-4477-B77F-65BA2E7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AB2-D55E-4C81-A7D3-BE3372F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20FB-ACEF-4AAB-B0F5-47F5233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A35-CAAF-4460-8859-7DD757BD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D157-E29B-4FFD-9587-8FA29E7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537-FB21-46C7-975A-800F0109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272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2964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560" y="5236920"/>
            <a:ext cx="1987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11EA-9E5C-46D1-BB60-1BC66AD4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7F5-9920-42FC-8C2A-88110CB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7E6-2800-4F69-85BE-A84B684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207-B372-4732-BBA8-15B29D5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1920" y="138240"/>
            <a:ext cx="6183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6AF-C024-4C36-A1B8-9121DDA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CBB-2D55-4713-9054-17E277F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3692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65E-4B38-494D-A26D-1244576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36920"/>
            <a:ext cx="617220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EB1-4581-40AD-901B-6095070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07000" y="0"/>
            <a:ext cx="2150640" cy="9142200"/>
            <a:chOff x="-207000" y="0"/>
            <a:chExt cx="2150640" cy="9142200"/>
          </a:xfrm>
        </p:grpSpPr>
        <p:sp>
          <p:nvSpPr>
            <p:cNvPr id="1" name="Freeform 3"/>
            <p:cNvSpPr/>
            <p:nvPr/>
          </p:nvSpPr>
          <p:spPr>
            <a:xfrm>
              <a:off x="-6480" y="6904800"/>
              <a:ext cx="561960" cy="169704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-23400" y="5211720"/>
              <a:ext cx="801360" cy="931320"/>
              <a:chOff x="-23400" y="5211720"/>
              <a:chExt cx="801360" cy="93132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-28800" y="5289120"/>
                <a:ext cx="302760" cy="19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126720" y="5789160"/>
                <a:ext cx="51804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372240" y="5633640"/>
                <a:ext cx="541440" cy="8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06560" y="3674520"/>
              <a:ext cx="847800" cy="162576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21240" y="3578760"/>
              <a:ext cx="1964880" cy="3925080"/>
              <a:chOff x="-21240" y="3578760"/>
              <a:chExt cx="1964880" cy="39250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51000" y="3643920"/>
                <a:ext cx="729360" cy="1339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25640" y="3858840"/>
                <a:ext cx="612360" cy="13622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18600" y="4141440"/>
                <a:ext cx="217080" cy="689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672120" y="5086800"/>
                <a:ext cx="200880" cy="411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614520" y="5180400"/>
                <a:ext cx="48960" cy="2437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550440" y="5571720"/>
                <a:ext cx="1393200" cy="1932120"/>
                <a:chOff x="550440" y="5571720"/>
                <a:chExt cx="1393200" cy="19321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786240" y="5610240"/>
                  <a:ext cx="633240" cy="914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1647000" y="6692760"/>
                  <a:ext cx="146520" cy="375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1720080" y="7340400"/>
                  <a:ext cx="265320" cy="63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 rot="10800000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313200" y="8219880"/>
              <a:ext cx="673920" cy="826200"/>
              <a:chOff x="313200" y="8219880"/>
              <a:chExt cx="673920" cy="8262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732600" y="8276040"/>
                <a:ext cx="262440" cy="187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449640" y="8731080"/>
                <a:ext cx="448920" cy="156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174600" y="8619840"/>
                <a:ext cx="469440" cy="8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231120" y="2394360"/>
              <a:ext cx="587160" cy="897840"/>
              <a:chOff x="231120" y="2394360"/>
              <a:chExt cx="587160" cy="89784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552960" y="2431800"/>
                <a:ext cx="27576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425160" y="2953440"/>
                <a:ext cx="471960" cy="186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60120" y="2955240"/>
                <a:ext cx="493200" cy="95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969840" y="0"/>
              <a:ext cx="410040" cy="775440"/>
              <a:chOff x="969840" y="0"/>
              <a:chExt cx="410040" cy="77544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969840" y="0"/>
                <a:ext cx="129960" cy="291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57400" y="137880"/>
                <a:ext cx="222480" cy="241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12760" y="652320"/>
                <a:ext cx="232560" cy="12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02960" y="199080"/>
              <a:ext cx="832320" cy="15998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287280" y="7205040"/>
              <a:ext cx="156960" cy="353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315720" y="7603200"/>
              <a:ext cx="81000" cy="9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2600" y="8699760"/>
              <a:ext cx="141480" cy="442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-360" y="8399160"/>
              <a:ext cx="153360" cy="27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-360" y="8358840"/>
              <a:ext cx="55800" cy="180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-360" y="6855840"/>
              <a:ext cx="591840" cy="1566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22680" y="867600"/>
              <a:ext cx="409680" cy="516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287280" y="1600200"/>
              <a:ext cx="199800" cy="243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682560" y="605160"/>
              <a:ext cx="176040" cy="338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280080" y="1525320"/>
              <a:ext cx="72360" cy="205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697320" y="986400"/>
              <a:ext cx="85680" cy="86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-360" y="1875240"/>
              <a:ext cx="428760" cy="13755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65520" y="177120"/>
              <a:ext cx="957240" cy="14518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993F-4306-4F79-BAA3-49C7173C4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48600" y="0"/>
            <a:ext cx="6989760" cy="9143280"/>
            <a:chOff x="-48600" y="0"/>
            <a:chExt cx="6989760" cy="9143280"/>
          </a:xfrm>
        </p:grpSpPr>
        <p:grpSp>
          <p:nvGrpSpPr>
            <p:cNvPr id="85" name="Group 3"/>
            <p:cNvGrpSpPr/>
            <p:nvPr/>
          </p:nvGrpSpPr>
          <p:grpSpPr>
            <a:xfrm>
              <a:off x="3784680" y="304920"/>
              <a:ext cx="3156480" cy="7854120"/>
              <a:chOff x="3784680" y="304920"/>
              <a:chExt cx="3156480" cy="78541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4877280" y="479160"/>
                <a:ext cx="1584720" cy="3142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5536080" y="2630880"/>
                <a:ext cx="680400" cy="1123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5104440" y="3447000"/>
                <a:ext cx="329400" cy="526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5354280" y="909000"/>
                <a:ext cx="291240" cy="734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5349600" y="3517920"/>
                <a:ext cx="123840" cy="442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5285520" y="1652760"/>
                <a:ext cx="142920" cy="19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4500360" y="3859920"/>
                <a:ext cx="393480" cy="435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24480" y="4141800"/>
              <a:ext cx="385200" cy="1375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99800" y="2666520"/>
              <a:ext cx="1497960" cy="3242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5524200"/>
              <a:ext cx="952920" cy="9712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067400" y="6042960"/>
              <a:ext cx="422280" cy="981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950040" y="6305040"/>
              <a:ext cx="103320" cy="5796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414440" y="6927480"/>
              <a:ext cx="1318320" cy="2215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3068640" y="1551600"/>
              <a:ext cx="960840" cy="1331280"/>
              <a:chOff x="3068640" y="1551600"/>
              <a:chExt cx="960840" cy="13312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3233160" y="1647000"/>
                <a:ext cx="380880" cy="283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3415320" y="2288520"/>
                <a:ext cx="651960" cy="235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2978640" y="2511720"/>
                <a:ext cx="681480" cy="12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4191120" y="493200"/>
              <a:ext cx="732960" cy="905400"/>
              <a:chOff x="4191120" y="493200"/>
              <a:chExt cx="732960" cy="9054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4311360" y="1101960"/>
                <a:ext cx="238320" cy="27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4166640" y="687960"/>
                <a:ext cx="407880" cy="225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4578840" y="654840"/>
                <a:ext cx="426600" cy="114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581760" y="7047000"/>
              <a:ext cx="1083240" cy="928800"/>
              <a:chOff x="581760" y="7047000"/>
              <a:chExt cx="1083240" cy="928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373760" y="7459920"/>
                <a:ext cx="187920" cy="39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944280" y="7579800"/>
                <a:ext cx="321840" cy="332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597960" y="7132320"/>
                <a:ext cx="336600" cy="169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182880" y="696600"/>
              <a:ext cx="1480320" cy="1467720"/>
              <a:chOff x="182880" y="696600"/>
              <a:chExt cx="1480320" cy="14677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154160" y="1672200"/>
                <a:ext cx="473760" cy="39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527400" y="969480"/>
                <a:ext cx="811440" cy="329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-7200" y="1410480"/>
                <a:ext cx="847800" cy="167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5559480" y="5010840"/>
              <a:ext cx="902880" cy="2008440"/>
              <a:chOff x="5559480" y="5010840"/>
              <a:chExt cx="902880" cy="200844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5635800" y="6290640"/>
                <a:ext cx="266400" cy="707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5945400" y="5974920"/>
                <a:ext cx="456120" cy="587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5606280" y="5060880"/>
                <a:ext cx="476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447920" y="3960"/>
              <a:ext cx="1023120" cy="1875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2566080" y="214560"/>
              <a:ext cx="808920" cy="12549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2376000" y="1815480"/>
              <a:ext cx="390240" cy="5878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2645640" y="1708920"/>
              <a:ext cx="146520" cy="493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1907280" y="0"/>
              <a:ext cx="147240" cy="2559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2585880" y="2619000"/>
              <a:ext cx="466200" cy="48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3911400"/>
              <a:ext cx="42840" cy="2790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338-C7EF-4A92-B14C-BCA67D2F4F5E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1040" y="794880"/>
            <a:ext cx="4645080" cy="47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900" spc="-1" strike="noStrike">
                <a:solidFill>
                  <a:srgbClr val="006699"/>
                </a:solidFill>
                <a:latin typeface="Verdana"/>
              </a:rPr>
              <a:t>Pass</a:t>
            </a:r>
            <a:r>
              <a:rPr b="0" lang="en-AU" sz="5900" spc="-1" strike="noStrike">
                <a:solidFill>
                  <a:srgbClr val="006699"/>
                </a:solidFill>
                <a:latin typeface="Verdana"/>
                <a:ea typeface="Arial"/>
              </a:rPr>
              <a:t>é Composé</a:t>
            </a:r>
            <a:endParaRPr b="0" lang="en-US" sz="5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66960" y="5706720"/>
            <a:ext cx="4610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 over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04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hoosing the right auxiliary verb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186920"/>
            <a:ext cx="6172200" cy="74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99"/>
                </a:solidFill>
                <a:latin typeface="Verdana"/>
              </a:rPr>
              <a:t>Is it one of the 16 “</a:t>
            </a:r>
            <a:r>
              <a:rPr b="1" lang="en-AU" sz="24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1" lang="en-AU" sz="2400" spc="-1" strike="noStrike">
                <a:solidFill>
                  <a:srgbClr val="006699"/>
                </a:solidFill>
                <a:latin typeface="Verdana"/>
              </a:rPr>
              <a:t>” verb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84640" y="2340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734080" y="2411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35720" y="320364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997360" y="3132000"/>
            <a:ext cx="22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Is it: descend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mont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sort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rentr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AU" sz="1800" spc="-1" strike="noStrike">
                <a:solidFill>
                  <a:srgbClr val="006699"/>
                </a:solidFill>
                <a:latin typeface="Verdana"/>
              </a:rPr>
              <a:t>passe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357720" y="5068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941720" y="51483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11"/>
          <p:cNvSpPr/>
          <p:nvPr/>
        </p:nvSpPr>
        <p:spPr>
          <a:xfrm flipH="1">
            <a:off x="4872960" y="59403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Verdana"/>
              </a:rPr>
              <a:t>êt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341360" y="6012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Is there a direct object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2060640" y="6877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es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357720" y="68770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357720" y="7740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Verdana"/>
              </a:rPr>
              <a:t>êtr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844640" y="774072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4508280" y="1692360"/>
            <a:ext cx="64908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5229360" y="1692360"/>
            <a:ext cx="647640" cy="64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4508640" y="277164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950080" y="277164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3644640" y="4572000"/>
            <a:ext cx="431640" cy="431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4365720" y="4572000"/>
            <a:ext cx="79200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645000" y="5435640"/>
            <a:ext cx="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5157720" y="550872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2349360" y="6372360"/>
            <a:ext cx="64800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2997360" y="6372360"/>
            <a:ext cx="647640" cy="431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2349360" y="730872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28"/>
          <p:cNvSpPr/>
          <p:nvPr/>
        </p:nvSpPr>
        <p:spPr>
          <a:xfrm>
            <a:off x="3645000" y="730872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404640" y="1763640"/>
            <a:ext cx="2880000" cy="62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all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arriv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descendr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entr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mont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mour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naîtr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part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pass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ntr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st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tourn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reven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sort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tombe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99"/>
                </a:solidFill>
                <a:latin typeface="Verdana"/>
              </a:rPr>
              <a:t>venir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Verdana"/>
              </a:rPr>
              <a:t>AVOI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3080" y="2133720"/>
          <a:ext cx="6172200" cy="6602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ÊTR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OIR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je (j’)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ui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i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elle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e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mm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on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êt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avez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elle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s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9900ff"/>
                          </a:solidFill>
                          <a:latin typeface="Verdana"/>
                          <a:ea typeface="Arial"/>
                        </a:rPr>
                        <a:t>on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king the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st Particip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65152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-er verbs: parl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        parl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-ir verbs: part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i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         part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6699"/>
                </a:solidFill>
                <a:latin typeface="Verdana"/>
              </a:rPr>
              <a:t>-re verbs: attend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re</a:t>
            </a:r>
            <a:r>
              <a:rPr b="0" lang="en-AU" sz="2800" spc="-1" strike="noStrike">
                <a:solidFill>
                  <a:srgbClr val="006699"/>
                </a:solidFill>
                <a:latin typeface="Verdana"/>
              </a:rPr>
              <a:t>       attend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u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6699"/>
                </a:solidFill>
                <a:latin typeface="Verdana"/>
              </a:rPr>
              <a:t>Irregular verbs: Check verb wheel!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*Many -re verbs are irregular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Check the verb wheel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292640" y="248436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4076640" y="363528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076640" y="471636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1920" y="138240"/>
            <a:ext cx="6183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agreement rule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If you use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être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in the Passé Composé the past participle must agree i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numb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gender</a:t>
            </a: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 with the pers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Masculine – do not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Feminine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Masc. plural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6699"/>
                </a:solidFill>
                <a:latin typeface="Verdana"/>
              </a:rPr>
              <a:t>Fem. Plural – add an </a:t>
            </a:r>
            <a:r>
              <a:rPr b="0" lang="en-AU" sz="3200" spc="-1" strike="noStrike">
                <a:solidFill>
                  <a:srgbClr val="ff0000"/>
                </a:solidFill>
                <a:latin typeface="Verdana"/>
              </a:rPr>
              <a:t>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5:57:27Z</dcterms:created>
  <dc:creator>Mary De Poorter</dc:creator>
  <dc:description/>
  <dc:language>en-US</dc:language>
  <cp:lastModifiedBy>Mary De Poorter</cp:lastModifiedBy>
  <dcterms:modified xsi:type="dcterms:W3CDTF">2009-05-13T04:03:47Z</dcterms:modified>
  <cp:revision>10</cp:revision>
  <dc:subject/>
  <dc:title>Passé Composé</dc:title>
</cp:coreProperties>
</file>